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C535-C0A3-482B-A153-6D49DFE7C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AA63-63F4-437B-8314-9C8EE67D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73AA-DED7-493A-AC57-BCB319F1B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8D78-887A-40AB-A6CF-17569E60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A3E1-B3C9-4DD6-8AE5-7E962DF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32B-6287-48BA-A709-BD522278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A89D-3E3B-47CB-BC97-3697B1CD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75E3-DAA3-4104-BE3B-FC2E0F56D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11DB-FF3B-493F-960C-38045044E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A069-08F3-4228-AE55-E751CBBB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1005-CF4E-4565-B6E4-C12C474EF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179-E2C4-418F-8A9D-5B79D442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8E11-F60E-4B6D-8584-ACCDE872AB63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Sprawozdanie z realizacji rocznego programu współpracy z organizacjami pozarządowymi oraz innymi podmiotami </a:t>
            </a:r>
            <a:br>
              <a:rPr sz="3200"/>
            </a:b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w gminie Śrem w 2012 r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XXXI Sesja Rady Miejskiej w Śrem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Times New Roman"/>
              </a:rPr>
              <a:t>Śrem 2013 rok</a:t>
            </a:r>
            <a:r>
              <a:rPr b="0" lang="pl-P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1523880" cy="18619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7"/>
          <p:cNvSpPr/>
          <p:nvPr/>
        </p:nvSpPr>
        <p:spPr>
          <a:xfrm>
            <a:off x="1981080" y="654480"/>
            <a:ext cx="5257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5050"/>
                </a:solidFill>
                <a:latin typeface="Times New Roman"/>
              </a:rPr>
              <a:t>Urząd Miejski w Śremie, Pl.20 Października 1, 63-100 Śr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       </a:t>
            </a:r>
            <a:r>
              <a:rPr b="1" lang="en-US" sz="1400" spc="-1" strike="noStrike">
                <a:solidFill>
                  <a:srgbClr val="ff5050"/>
                </a:solidFill>
                <a:latin typeface="Times New Roman"/>
              </a:rPr>
              <a:t>tel. 061 28 35 225; infolinia 0801 300 031; umiejski@srem.p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F4FC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685800" y="2286000"/>
          <a:ext cx="8153280" cy="2173320"/>
        </p:xfrm>
        <a:graphic>
          <a:graphicData uri="http://schemas.openxmlformats.org/drawingml/2006/table">
            <a:tbl>
              <a:tblPr/>
              <a:tblGrid>
                <a:gridCol w="533520"/>
                <a:gridCol w="2209680"/>
                <a:gridCol w="1371600"/>
                <a:gridCol w="1219320"/>
                <a:gridCol w="1371600"/>
                <a:gridCol w="1447560"/>
              </a:tblGrid>
              <a:tr h="1219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4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ganizacja wypoczynku letniego dla dzieci zamieszkałych na terenie gminy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ypoczynek dzieci i młodzież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3" descr=""/>
          <p:cNvPicPr/>
          <p:nvPr/>
        </p:nvPicPr>
        <p:blipFill>
          <a:blip r:embed="rId1"/>
          <a:stretch/>
        </p:blipFill>
        <p:spPr>
          <a:xfrm>
            <a:off x="914400" y="512640"/>
            <a:ext cx="1371600" cy="1712880"/>
          </a:xfrm>
          <a:prstGeom prst="rect">
            <a:avLst/>
          </a:prstGeom>
          <a:ln w="0">
            <a:noFill/>
          </a:ln>
        </p:spPr>
      </p:pic>
      <p:pic>
        <p:nvPicPr>
          <p:cNvPr id="79" name="44E0248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Organizacja wypoczynku letniego dla dziec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i młodzieży zamieszkałych na terenie gminy Śrem” gmina Śrem podpisała umowę z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457200" y="527040"/>
            <a:ext cx="1228680" cy="15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2" name=""/>
          <p:cNvGraphicFramePr/>
          <p:nvPr/>
        </p:nvGraphicFramePr>
        <p:xfrm>
          <a:off x="457200" y="2286000"/>
          <a:ext cx="8001000" cy="1859040"/>
        </p:xfrm>
        <a:graphic>
          <a:graphicData uri="http://schemas.openxmlformats.org/drawingml/2006/table">
            <a:tbl>
              <a:tblPr/>
              <a:tblGrid>
                <a:gridCol w="457200"/>
                <a:gridCol w="2209680"/>
                <a:gridCol w="3429000"/>
                <a:gridCol w="1905120"/>
              </a:tblGrid>
              <a:tr h="517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wiązek Harcerstwa Polskiego Chorągiew Wielkopolska – Hufiec Śr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„</a:t>
                      </a: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krywcy letniej przygody”</a:t>
                      </a: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organizacja obozu harcerskiego w Pogorzelicy dla 30 zuchów i 30 harcerzy i harcerek. Wyjazd nad morze zapewnił uczestnikom możliwość poznania nowych, ciekawych turystycznie i krajobrazowo miejsc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 800 z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3" name="8054249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512640" y="1905120"/>
          <a:ext cx="8153640" cy="4190760"/>
        </p:xfrm>
        <a:graphic>
          <a:graphicData uri="http://schemas.openxmlformats.org/drawingml/2006/table">
            <a:tbl>
              <a:tblPr/>
              <a:tblGrid>
                <a:gridCol w="533520"/>
                <a:gridCol w="2133720"/>
                <a:gridCol w="1371600"/>
                <a:gridCol w="1218960"/>
                <a:gridCol w="1447920"/>
                <a:gridCol w="144792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1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worzenie warunków na rzecz integracji i zwiększenia udziału osób niepełnosprawnych w życiu społecznym poprzez organizację imprez kulturalnych oraz sportowo-rekreacyjnych, mających na celu usprawnianie oraz przygotowanie do aktywnego życia społeczneg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ziałalność na rzecz osób niepełnosprawny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77" descr=""/>
          <p:cNvPicPr/>
          <p:nvPr/>
        </p:nvPicPr>
        <p:blipFill>
          <a:blip r:embed="rId1"/>
          <a:stretch/>
        </p:blipFill>
        <p:spPr>
          <a:xfrm>
            <a:off x="685800" y="307800"/>
            <a:ext cx="1158840" cy="1447920"/>
          </a:xfrm>
          <a:prstGeom prst="rect">
            <a:avLst/>
          </a:prstGeom>
          <a:ln w="0">
            <a:noFill/>
          </a:ln>
        </p:spPr>
      </p:pic>
      <p:pic>
        <p:nvPicPr>
          <p:cNvPr id="87" name="B8FE2530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9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Tworzenie warunków na rzecz integracji i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  zwiększenia udziału osób niepełnosprawnych w życiu społecznym (…)” gmina Śrem podpisała umowy z następującymi organizacjam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555480" y="914400"/>
            <a:ext cx="1098720" cy="1371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609480" y="2590920"/>
          <a:ext cx="8153640" cy="2743200"/>
        </p:xfrm>
        <a:graphic>
          <a:graphicData uri="http://schemas.openxmlformats.org/drawingml/2006/table">
            <a:tbl>
              <a:tblPr/>
              <a:tblGrid>
                <a:gridCol w="457200"/>
                <a:gridCol w="1905120"/>
                <a:gridCol w="3962520"/>
                <a:gridCol w="1828800"/>
              </a:tblGrid>
              <a:tr h="457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ndacja Na Rzecz Rewaloryzacji Miasta Śr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jówka „Świat Bajkolandii”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wzięło w niej udział 140 dzieci niepełnosprawnych, wolontariusze, opiekunowie, przedstawiciele Fundacji oraz zaproszeni goście. Impreza organizowana jest od 19 la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80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mskie Stowarzyszenie Na Rzecz Osób Niepełnosprawnych TRÓJ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urnus rehabilitacyjny CHMIELNO – wzięło w nim udział 45 osób, z czego 35 dzieci z niepełnosprawnością intelektualną w wieku 7-25 lat oraz 10 opiekunów. Dużą grupę stanowiły dzieci z rodzin o trudnej sytuacji materialnej i o utrudnionym dostępie do specjalistycznej terapii i rehabilitacji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 4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 250 z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1" name="1EEE2545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zafinansowa forma współpra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Pozafinansowe formy współpracy dotyczyły sf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acyjnej -  stworzenie skutecznego systemu przekazywania informacji dla i o organizacjach pozarządowych oraz innych podmiotach na stronie internetowej Urzędu Miejskiego w Śrem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organizacyjnej -  konsultacje aktów prawa miejscoweg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c) 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szkoleniowej – przekazywanie informacji o propozycjach szkole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1282680" cy="1600200"/>
          </a:xfrm>
          <a:prstGeom prst="rect">
            <a:avLst/>
          </a:prstGeom>
          <a:ln w="0">
            <a:noFill/>
          </a:ln>
        </p:spPr>
      </p:pic>
      <p:pic>
        <p:nvPicPr>
          <p:cNvPr id="95" name="06B0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ena oraz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fekty realizacji rocznego programu współpracy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gminy Śrem z organizacjami pozarządowymi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innymi podmiotami w 2012r.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realizowano wszystkie zadania powierzone organizacjom pozarządowy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otacje wydatkowano zgodnie z przeznaczeni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realizacji zadań działaniami objęto grupę 541 osób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 wyniku realizacji zadań gmina Śrem zyskała na promocji, reklamie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aktualizowano system przekazywania informacji dla i o organizacjach na stronie </a:t>
            </a:r>
            <a:r>
              <a:rPr b="0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srem.pl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w zakładce: </a:t>
            </a:r>
            <a:r>
              <a:rPr b="0" i="1" lang="pl-PL" sz="2000" spc="-1" strike="noStrike">
                <a:solidFill>
                  <a:srgbClr val="000000"/>
                </a:solidFill>
                <a:latin typeface="Times New Roman"/>
              </a:rPr>
              <a:t>Współpraca z organizacjami pozarządowym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zorganizowano 7 imprez przez organizacje pozarządowe pod patronatem Burmistrza Śrem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udzielono jednej rekomendacji organizacji pozarządowej, działającej na terenie gminy Śre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informowano 14-krotnie o osiągnięciach i działalności realizowanych na rzecz gminy i jej mieszkańców przez organizacje pozarządowe oraz inne podmi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1128600" cy="1409400"/>
          </a:xfrm>
          <a:prstGeom prst="rect">
            <a:avLst/>
          </a:prstGeom>
          <a:ln w="0">
            <a:noFill/>
          </a:ln>
        </p:spPr>
      </p:pic>
      <p:pic>
        <p:nvPicPr>
          <p:cNvPr id="99" name="BA23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0000"/>
                </a:solidFill>
                <a:latin typeface="Times New Roman"/>
              </a:rPr>
              <a:t>Dziękuję za uwagę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1"/>
          <a:stretch/>
        </p:blipFill>
        <p:spPr>
          <a:xfrm>
            <a:off x="3773520" y="3886200"/>
            <a:ext cx="1789200" cy="2286000"/>
          </a:xfrm>
          <a:prstGeom prst="rect">
            <a:avLst/>
          </a:prstGeom>
          <a:ln w="0">
            <a:noFill/>
          </a:ln>
        </p:spPr>
      </p:pic>
      <p:pic>
        <p:nvPicPr>
          <p:cNvPr id="102" name="17AD256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1828800"/>
            <a:ext cx="822960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oczny program współprac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z organizacjami pozarządowymi i innymi podmiotami na 2012r. został przyjęty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w dniu 24 listopada 2011 r.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Uchwałą Nr 158/XVI/11 </a:t>
            </a:r>
            <a:br>
              <a:rPr sz="3600"/>
            </a:br>
            <a:r>
              <a:rPr b="0" lang="pl-PL" sz="3600" spc="-1" strike="noStrike">
                <a:solidFill>
                  <a:srgbClr val="000000"/>
                </a:solidFill>
                <a:latin typeface="Times New Roman"/>
              </a:rPr>
              <a:t>Rady Miejskiej w Śremi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1698840" cy="1981080"/>
          </a:xfrm>
          <a:prstGeom prst="rect">
            <a:avLst/>
          </a:prstGeom>
          <a:ln w="0">
            <a:noFill/>
          </a:ln>
        </p:spPr>
      </p:pic>
      <p:pic>
        <p:nvPicPr>
          <p:cNvPr id="47" name="39A6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 rocznym programie współpracy określono dwie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formy współpracy gminy Śrem z organizacjami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 pozarządowymi i innymi podmiotam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693200" cy="24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nansową formę współpracy, która polegała na zlecaniu organizacjom pozarządowym i innym podmiotom zadań, na których realizację gmina udzieliła dofinansowani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zafinansową formę współpracy, która dotyczyła sfer: informacyjnej, organizacyjnej oraz szkoleniowej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1295640" cy="1600200"/>
          </a:xfrm>
          <a:prstGeom prst="rect">
            <a:avLst/>
          </a:prstGeom>
          <a:ln w="0">
            <a:noFill/>
          </a:ln>
        </p:spPr>
      </p:pic>
      <p:pic>
        <p:nvPicPr>
          <p:cNvPr id="51" name="B18B2327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36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Finansowa forma współp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2012r. zrealizowane zostały zadania publicz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w następujących zakres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)</a:t>
            </a:r>
            <a:r>
              <a:rPr b="0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zakresie kultury, sztuki, ochrony dóbr kultu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 dziedzictwa narodoweg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) w zakresie pomocy społecznej, w tym pomo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rodzinom i osobom w trudnej sytuacji życiowej ora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yrównywania szans tych rodzin i osó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c) w zakresie wypoczynku dzieci i młodzieży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) w zakresie działalności na rzecz osób niepełnosprawn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609480" y="291960"/>
            <a:ext cx="1519200" cy="1765440"/>
          </a:xfrm>
          <a:prstGeom prst="rect">
            <a:avLst/>
          </a:prstGeom>
          <a:ln w="0">
            <a:noFill/>
          </a:ln>
        </p:spPr>
      </p:pic>
      <p:pic>
        <p:nvPicPr>
          <p:cNvPr id="55" name="491B2343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ultura, sztuka, ochrona dóbr kultury </a:t>
            </a:r>
            <a:br>
              <a:rPr sz="2800"/>
            </a:b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 dziedzictwa narodow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685800" y="2057400"/>
          <a:ext cx="8077320" cy="3351240"/>
        </p:xfrm>
        <a:graphic>
          <a:graphicData uri="http://schemas.openxmlformats.org/drawingml/2006/table">
            <a:tbl>
              <a:tblPr/>
              <a:tblGrid>
                <a:gridCol w="533520"/>
                <a:gridCol w="1600200"/>
                <a:gridCol w="1295280"/>
                <a:gridCol w="1295280"/>
                <a:gridCol w="1600200"/>
                <a:gridCol w="175284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2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, śpiewu oraz tań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8" name="Picture 252" descr=""/>
          <p:cNvPicPr/>
          <p:nvPr/>
        </p:nvPicPr>
        <p:blipFill>
          <a:blip r:embed="rId1"/>
          <a:stretch/>
        </p:blipFill>
        <p:spPr>
          <a:xfrm>
            <a:off x="685800" y="492120"/>
            <a:ext cx="1265400" cy="1476360"/>
          </a:xfrm>
          <a:prstGeom prst="rect">
            <a:avLst/>
          </a:prstGeom>
          <a:ln w="0">
            <a:noFill/>
          </a:ln>
        </p:spPr>
      </p:pic>
      <p:pic>
        <p:nvPicPr>
          <p:cNvPr id="59" name="34482358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nia pn. „Szkolenia muzyczne w zakresie gry 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instrumentach, śpiewu oraz tańca” gmina Śrem podpisała umowy z następującymi organizacjami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230480" cy="1447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" name=""/>
          <p:cNvGraphicFramePr/>
          <p:nvPr/>
        </p:nvGraphicFramePr>
        <p:xfrm>
          <a:off x="457200" y="1828800"/>
          <a:ext cx="8153280" cy="4861080"/>
        </p:xfrm>
        <a:graphic>
          <a:graphicData uri="http://schemas.openxmlformats.org/drawingml/2006/table">
            <a:tbl>
              <a:tblPr/>
              <a:tblGrid>
                <a:gridCol w="685800"/>
                <a:gridCol w="3048120"/>
                <a:gridCol w="2819160"/>
                <a:gridCol w="1600200"/>
              </a:tblGrid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gry na instrumentach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-osobowa grupa młodzieży uczęszczała na zajęcia gry na instrumentach dęt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3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warzystwo muzyczne im. Mariana Zielińskiego w Śremi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tańca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 dziewcząt ze szkół podstawowych pobierało nieodpłatnie lekcje tań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5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ór CORDA CORD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a muzyczne w zakresie śpiewu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-osobowa grupa chórzystów szkoliła się w zakresie śpiewu. Celem zadania było podniesienie umiejętności wokalnych członków chóru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warzyszenie CANTAVI AD HOMIN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zkolenie muzyczne </a:t>
                      </a:r>
                      <a:br>
                        <a:rPr sz="1400"/>
                      </a:b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zakresie śpiewu</a:t>
                      </a:r>
                      <a:r>
                        <a:rPr b="0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członków chóru muzyki dawnej szkoliło się w zakresie śpiewu w ilości 6-spotkań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-godzinnych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Łącznie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000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3" name="1CFE2389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480" y="26676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moc społeczna, w tym pomoc rodzinom osobom w trudnej                             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                  sytuacji życiowej oraz wyrównywanie szans tych rodzin i osób</a:t>
            </a:r>
            <a:br>
              <a:rPr sz="2000"/>
            </a:b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      (</a:t>
            </a: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Zadanie realizowane przez Ośrodek Pomocy Społecznej w Śrem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533520" y="266760"/>
            <a:ext cx="1172880" cy="14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" name=""/>
          <p:cNvGraphicFramePr/>
          <p:nvPr/>
        </p:nvGraphicFramePr>
        <p:xfrm>
          <a:off x="457200" y="1782720"/>
          <a:ext cx="8229600" cy="4846680"/>
        </p:xfrm>
        <a:graphic>
          <a:graphicData uri="http://schemas.openxmlformats.org/drawingml/2006/table">
            <a:tbl>
              <a:tblPr/>
              <a:tblGrid>
                <a:gridCol w="533520"/>
                <a:gridCol w="1904760"/>
                <a:gridCol w="1295640"/>
                <a:gridCol w="1218960"/>
                <a:gridCol w="1447920"/>
                <a:gridCol w="1828800"/>
              </a:tblGrid>
              <a:tr h="1189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dotacji na realizację zad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złożonych of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czba podpisanych umó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go dofinansowan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7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i specjalistycznych usług opiekuńczych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az </a:t>
                      </a:r>
                      <a:br>
                        <a:rPr sz="1800"/>
                      </a:b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z zaburzeniami psychiczny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0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4 246,32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cz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 000 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z budżetu gm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odki pozyskane z Urzędu Wojewódzkie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41332421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2660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 ramach zadań pn. „Świadczenie usług opiekuńczych </a:t>
            </a:r>
            <a:br>
              <a:rPr sz="2000"/>
            </a:b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 specjalistycznych usług opiekuńczych” gmina Śrem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odpisała umowę z organizacj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762120" y="401760"/>
            <a:ext cx="1341360" cy="1676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685800" y="2209680"/>
          <a:ext cx="7848720" cy="3008520"/>
        </p:xfrm>
        <a:graphic>
          <a:graphicData uri="http://schemas.openxmlformats.org/drawingml/2006/table">
            <a:tbl>
              <a:tblPr/>
              <a:tblGrid>
                <a:gridCol w="457200"/>
                <a:gridCol w="2133720"/>
                <a:gridCol w="3886200"/>
                <a:gridCol w="137160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5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usług opiekuńczych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 specjalistycznych usług opiekuńczych –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osobie samotnej lub osobie, która z powodu wieku, choroby lub innych przyczyn wymaga pomocy innych osób tj. asystenta osoby niepełnosprawnej i opiekunki. Usługi opiekuńcze świadczone są w zakresie: opieki higienicznej, pielęgnacji, kontakt z otoczenie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ieką zostało objętych łącznie 78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7 511,92 z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BB642436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9907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W ramach zadania pn. „Świadczenie specjalistycznych usług opiekuńczych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        dla osób z zaburzeniami psychicznymi” gmina Śrem podpisała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umowę z organizacją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1279440" cy="1600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" name=""/>
          <p:cNvGraphicFramePr/>
          <p:nvPr/>
        </p:nvGraphicFramePr>
        <p:xfrm>
          <a:off x="457200" y="2209680"/>
          <a:ext cx="8305920" cy="3268800"/>
        </p:xfrm>
        <a:graphic>
          <a:graphicData uri="http://schemas.openxmlformats.org/drawingml/2006/table">
            <a:tbl>
              <a:tblPr/>
              <a:tblGrid>
                <a:gridCol w="533520"/>
                <a:gridCol w="2666880"/>
                <a:gridCol w="2971800"/>
                <a:gridCol w="213372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zwa organiz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tuł i krótki opis realizowanego zadan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ysokość przyznanej dotacj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lski Komitet Pomocy Społeczne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wiadczenie specjalistycznych usług opiekuńczych dla osób </a:t>
                      </a:r>
                      <a:br>
                        <a:rPr sz="1600"/>
                      </a:b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 zaburzeniami psychicznymi</a:t>
                      </a:r>
                      <a:r>
                        <a:rPr b="0" lang="pl-P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</a:t>
                      </a: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dziela się w zakresie: uczenia i rozwijania umiejętności niezbędnych do samodzielnego życia, pielęgnacji, rehabilitacji fizycznej, pomocy mieszkaniowej. Łącznie świadczeniami w 2012r. objętych było </a:t>
                      </a:r>
                      <a:br>
                        <a:rPr sz="1200"/>
                      </a:br>
                      <a:r>
                        <a:rPr b="0" lang="pl-PL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 osó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6 734,40z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88F42452.wav" descr=""/>
          <p:cNvPicPr/>
          <p:nvPr/>
        </p:nvPicPr>
        <p:blipFill>
          <a:blip r:embed="rId2"/>
          <a:stretch/>
        </p:blipFill>
        <p:spPr>
          <a:xfrm>
            <a:off x="8381880" y="6095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gnieszka Doberstein-Bednarska</cp:lastModifiedBy>
  <dcterms:modified xsi:type="dcterms:W3CDTF">2013-03-08T13:36:52Z</dcterms:modified>
  <cp:revision>17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